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142B-9EBE-49A2-993A-3A6C7BC5B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9651-DDA8-4E60-A775-04538BA7A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60B7-E30E-438E-A91E-CF8888B50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BC0-7FFB-46FD-87FA-6ADBC1C3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DEC-8BA6-4A85-9501-6C441968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BFA-B189-47DC-B241-4C2011C9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2F3-5B70-4670-8CA1-59C3A559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A90-E918-4FDF-B39F-7F8F236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8C3-7C1C-42AD-87EF-40CE6E10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D79-C202-4B00-930C-8D42798B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0EC-ADD6-487E-B4CA-318921EF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4BF-CFD7-44F9-B851-6738776A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B6E-9D51-4B09-B387-060622CA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AC4-698A-4F92-B82C-A0F26390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A74-A013-41F0-8D2D-90EAB346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DA4-F3A7-4893-9AE4-4E4FAF3AD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Strateg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reate this page in your spiral) R.N. pg. 25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5410080"/>
          <a:ext cx="8686800" cy="25495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25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RSTON’S PURPOSE: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how the strength  of her community.  To  share her personal experience and show the vitality of the African American commun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50" name="Down Arrow 4"/>
          <p:cNvSpPr/>
          <p:nvPr/>
        </p:nvSpPr>
        <p:spPr>
          <a:xfrm>
            <a:off x="1295280" y="4419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n Arrow 5"/>
          <p:cNvSpPr/>
          <p:nvPr/>
        </p:nvSpPr>
        <p:spPr>
          <a:xfrm>
            <a:off x="7238880" y="4419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n Arrow 6"/>
          <p:cNvSpPr/>
          <p:nvPr/>
        </p:nvSpPr>
        <p:spPr>
          <a:xfrm>
            <a:off x="4419720" y="4419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066680"/>
          <a:ext cx="8229600" cy="3353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n your spirals create your own foldable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mmarize The Harlem Renaissance pgs. 896-89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f the Renaissance were happening now which artists would be effective and why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Connected Vide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rite your response to the prompt he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ssential Ques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         (write your response to the prom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AutoShape 21"/>
          <p:cNvSpPr/>
          <p:nvPr/>
        </p:nvSpPr>
        <p:spPr>
          <a:xfrm>
            <a:off x="3200400" y="220968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2590920" y="282312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“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Dust Trac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on a Road” PHLit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n your spirals create your own foldable.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760"/>
                <a:gridCol w="433404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Analysi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 pg 928 to define social context, dialogue, &amp; diale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Strateg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 pg 928 to answer this question-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should you note when analyzing the effect of the auth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s purpose on meaning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a Neale Hurst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-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 pg 929 &amp; write Hurston facts from each par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sed on what you’ve learned about Hurston, the title and the pictures make a prediction about this autobiograph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AutoShape 21"/>
          <p:cNvSpPr/>
          <p:nvPr/>
        </p:nvSpPr>
        <p:spPr>
          <a:xfrm>
            <a:off x="3200400" y="2209680"/>
            <a:ext cx="2895480" cy="22860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2590920" y="282312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  “</a:t>
            </a: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Dust Trac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Bold Condensed"/>
              </a:rPr>
              <a:t>on a Roa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7:30:35Z</dcterms:created>
  <dc:creator>nvasquez</dc:creator>
  <dc:description/>
  <dc:language>en-US</dc:language>
  <cp:lastModifiedBy>Nvasquez</cp:lastModifiedBy>
  <dcterms:modified xsi:type="dcterms:W3CDTF">2011-02-09T22:40:29Z</dcterms:modified>
  <cp:revision>9</cp:revision>
  <dc:subject/>
  <dc:title>Use a piece of blank paper to create your own “Piece of the Pie” foldable.</dc:title>
</cp:coreProperties>
</file>